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151364"/>
        <c:axId val="49220874"/>
      </c:barChart>
      <c:catAx>
        <c:axId val="401513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20874"/>
        <c:crosses val="autoZero"/>
        <c:auto val="1"/>
        <c:lblAlgn val="ctr"/>
        <c:lblOffset val="100"/>
        <c:noMultiLvlLbl val="0"/>
      </c:catAx>
      <c:valAx>
        <c:axId val="492208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513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99D6-5E58-47E8-AD37-2BCAA8C9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3E7B-0F75-44B2-A202-363C4A20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6A4B-44D5-4F7C-9910-58B93DCD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FC5E-68EF-4C75-99E0-600F850B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689A-3C26-4C66-9464-69D00318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2339-2C64-4930-B300-76388C61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AF37-4357-4DA3-8A81-FDA57520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D1E3-BA1D-4E64-A0DF-19128B19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B032-1AFF-4F8A-A9AF-AA81E5FF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5D04-19A1-4C78-B4BB-7C709C4A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155-B9CC-4DE9-817F-DC7C5F4C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23E-8BAA-4ECE-B326-720DACAC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A4A78-4480-480D-8AA5-6EDA99977B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