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21089"/>
        <c:axId val="91160815"/>
      </c:barChart>
      <c:catAx>
        <c:axId val="926210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60815"/>
        <c:crosses val="autoZero"/>
        <c:auto val="1"/>
        <c:lblAlgn val="ctr"/>
        <c:lblOffset val="100"/>
        <c:noMultiLvlLbl val="0"/>
      </c:catAx>
      <c:valAx>
        <c:axId val="911608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10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398-85B4-44EF-AD49-29B525F8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32A-5762-4E3C-B258-D162799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74E-43B7-4337-8CA4-A42EEEA1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1DE-5078-4A7B-B9A3-2A9E0788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43A8-44B9-4F3F-8C39-3014B47F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4F70-DB4B-4C74-9D78-17718CE9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D3B-4438-4585-8DEB-947A0D87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9746-341B-4058-ADAD-1C6BA86E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37CD-E34F-465E-900A-B2FB2696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351-829B-475B-BA52-9B934C7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1A2-7FDD-471B-9C2E-02538173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250-7834-45B4-8892-CBFBE9ED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23F19-B049-46B2-B497-0D87BF82D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