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15237"/>
        <c:axId val="57144977"/>
      </c:barChart>
      <c:catAx>
        <c:axId val="46915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44977"/>
        <c:crosses val="autoZero"/>
        <c:auto val="1"/>
        <c:lblAlgn val="ctr"/>
        <c:lblOffset val="100"/>
        <c:noMultiLvlLbl val="0"/>
      </c:catAx>
      <c:valAx>
        <c:axId val="57144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15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D0E-089B-457A-B63A-744ADAB7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30C-E0E0-40DE-97F8-03FBEE51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E35-DA4A-470B-831E-4D33E8DD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4B3-38DA-4796-AFCA-E43CC995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C5D-F20B-4320-A7EC-71A465E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F75-5493-4DDE-9CE7-5A60BDB5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3F8-6E75-4779-A01C-D7D3761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2EF-D745-412F-AFAB-7EDD706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759-EDF1-499E-813B-D6423B29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0FC-18D0-4531-AADA-EEBFA6A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D8B-F2B5-462B-BF9B-89B4A7D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994-3AF7-4909-B06F-FB64E3F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FC67B-9202-41F4-8AA8-8767AE083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