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3365"/>
        <c:axId val="58331641"/>
      </c:barChart>
      <c:catAx>
        <c:axId val="7553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1641"/>
        <c:crosses val="autoZero"/>
        <c:auto val="1"/>
        <c:lblAlgn val="ctr"/>
        <c:lblOffset val="100"/>
        <c:noMultiLvlLbl val="0"/>
      </c:catAx>
      <c:valAx>
        <c:axId val="58331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3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D45-85CE-4682-BC8F-FC1B85D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44D-DA8A-4915-9177-BCE9F8D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54D-DE05-410A-A385-51C7A12B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4DC-AD1A-4D25-A852-85A36254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A3F-4C55-4E17-8381-D95A71A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5AA-E8FF-4259-AA6C-7A1118D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A1A-0CE9-44D8-AD06-8842F17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DBE-5DB8-459A-9E22-BC43CE2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D0F-F49B-4D17-A754-0EE9E5CD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8F1-94BC-407E-8652-DBF0F96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AE5-70FA-490A-8B46-2EAC10D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1A9-0E15-4FF7-AA98-806118E1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C2CEA-701F-4EBD-A8C8-F2BD507B5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