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26135"/>
        <c:axId val="53226174"/>
      </c:barChart>
      <c:catAx>
        <c:axId val="83326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26174"/>
        <c:crosses val="autoZero"/>
        <c:auto val="1"/>
        <c:lblAlgn val="ctr"/>
        <c:lblOffset val="100"/>
        <c:noMultiLvlLbl val="0"/>
      </c:catAx>
      <c:valAx>
        <c:axId val="53226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26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CF7-E5C3-435A-BDEB-A146347B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FE7-7627-4AA2-AB35-26D3EF06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455-FAD6-4716-8B63-9CD6A36B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615-1802-46CF-B118-E23EA40A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AA0-0584-4BF1-8C82-978D84AC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8CB-AD04-4BD7-9819-AA9A7D60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848-9A27-436B-9CC3-317EE7D0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93A-D7F3-44A1-9C1B-E7DA3BA0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BFA-F84F-475C-9E6D-9FC124B5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515-481A-4A7D-BEA4-0AF368D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881-FC4E-4EBF-9F0C-4C00AE5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5F3-814F-42A0-97BA-651C3267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DAC6A-24E9-4D02-AE79-37F9C77C73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