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7022"/>
        <c:axId val="60900326"/>
      </c:barChart>
      <c:catAx>
        <c:axId val="6847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00326"/>
        <c:crosses val="autoZero"/>
        <c:auto val="1"/>
        <c:lblAlgn val="ctr"/>
        <c:lblOffset val="100"/>
        <c:noMultiLvlLbl val="0"/>
      </c:catAx>
      <c:valAx>
        <c:axId val="60900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7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7EB-0145-40DA-ADB2-863F2D90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70F-C1F0-4063-A495-0730001B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B3F-3390-41F2-89E7-206D6620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E60-E942-4D75-A40C-1625251B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856-7E4E-482C-A40F-08AE2005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4B4-CCDF-4245-800D-ED33387C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151-0AB5-4300-B59E-B8A41FB8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FFD-5093-4003-A3E3-DA6ABC6B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813-028D-4527-8BD6-5AB9BF6D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ECC-A0DF-4520-A8A1-45FFBF2B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4D6-56AA-4BB6-A0A1-8648531B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187-9954-48B9-B56A-4193D3B4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27977-A74A-4376-A5F0-3FDB78A68F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