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80175"/>
        <c:axId val="1092168"/>
      </c:barChart>
      <c:catAx>
        <c:axId val="50580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168"/>
        <c:crosses val="autoZero"/>
        <c:auto val="1"/>
        <c:lblAlgn val="ctr"/>
        <c:lblOffset val="100"/>
        <c:noMultiLvlLbl val="0"/>
      </c:catAx>
      <c:valAx>
        <c:axId val="1092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80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F6E-C3D2-4CD7-8261-438310D9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5E7-11B0-4F56-B799-D659420B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5F8-5163-4985-BB2F-1FD3B3C6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267-4011-4033-A10E-5E11E0FC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307-8EEC-46EC-8DCF-9C242459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B42-7C30-4796-910D-A3F3616F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846-0B1B-4FE8-8A46-F04BB022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F82-CECF-40C9-8406-717C9DD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6CB-D63D-4A36-A657-D99621FB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B5B-34C0-4148-A0D5-61BBEB0B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630-EEC4-4414-AE15-F357F40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37F-9385-46F4-84C7-70DE6824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05701-0B6B-4762-BD3D-FAD901A8D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