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214756"/>
        <c:axId val="53684323"/>
      </c:barChart>
      <c:catAx>
        <c:axId val="282147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684323"/>
        <c:crosses val="autoZero"/>
        <c:auto val="1"/>
        <c:lblAlgn val="ctr"/>
        <c:lblOffset val="100"/>
        <c:noMultiLvlLbl val="0"/>
      </c:catAx>
      <c:valAx>
        <c:axId val="536843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2147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2452-6FDC-4D67-9C23-66FC68479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6042-0B79-446D-9409-BCBD17ACA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1445-BB75-46A0-8F8B-77863BB8F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A7CA-08A0-4BCD-B5D3-E0891A516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AFD1-EFC7-496B-93D8-2F5A997C3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59AB-7891-4B00-AF91-65B533E25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A85C-7A42-4DA1-A4A5-93F219AAD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FD8C-CF48-4352-AD1C-5E2033AD7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4474-82CC-47EC-BFF5-3354D93DE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3CDE-F285-44BC-AB23-98686042F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8E4E-F067-4949-8483-BB5A1A2DD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D8A3-9BE2-40C4-806F-455F88343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C4002F-8D10-4322-BF6D-F4A924C878A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